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3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7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6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Palatino Linotype"/>
              </a:rPr>
              <a:t>Click to move the slide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8934A-D0E5-4109-BAE4-895395E88FBE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AC730-EE74-4138-B5A3-AB31A4AC6A0A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27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sr-Latn-CS" sz="1200" spc="-1" strike="noStrike">
              <a:solidFill>
                <a:srgbClr val="333399"/>
              </a:solidFill>
              <a:latin typeface="Palatino Linotype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FF0B4-DBCD-4B37-A6F5-750A7B13BFAD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1198D-E130-4581-A515-4896AC81042F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557CA-2D92-444B-9D2C-AB5C16CEF895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</a:t>
            </a: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 грађ</a:t>
            </a: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59C36-7B73-431F-8E17-6C905C7CCEC2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C0118-1D7F-4554-BC69-C78899C5F857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5911D-6B01-4A22-9A07-415A8709AECB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FD688-BE6D-4840-AD89-50DB63462D51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B06F6-9660-4879-9BCA-0EA8D7F81F3B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22A12-4988-4ABF-8AD7-BD555ADE1462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0E318-5115-46FA-B62F-694F1C95A136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BD810-C056-4ECF-849F-A04B5953AF28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F1B55-498B-4AF7-9E13-23FEEB02D18F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DF79B-7862-43E1-9427-70096CBA756B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0A078-4024-48B5-B144-56E64AE9AF9F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7CED1-B68F-4EAD-9703-3201523C931B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72BAF-FF46-4994-B705-250F74E5C842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C1676-4591-4CE3-96EB-0E5BA94F5789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D7A18-F39A-42C9-96FF-F4B7285FED08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05DFB-9C7D-458B-9FA8-D80C709DFB3F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483D1-3B91-4E53-9607-C8F371429D8C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F0E9E-DF98-4A40-8BA1-5CD495C6D97F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B41B5-2B6B-4DA7-9986-1B4B0873E535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5140D-F441-4C57-8DC3-C6A0AC6DB563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C510-75D6-41EB-8F30-51AE9B650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822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73680"/>
            <a:ext cx="822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5BF3-19AE-4508-BD31-79BC8BC15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7368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7368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C67D-43E3-42A7-BC07-D2D1DD017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0480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0480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7368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7368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7368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8E0A-FA7D-4BBA-8048-0F97A1D51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04800"/>
            <a:ext cx="8229600" cy="47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EEEA-66E2-48AE-ABA2-BD57057AC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82296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70F4-B261-4B7C-AC5A-077197F76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40158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04800"/>
            <a:ext cx="40158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AA97-A2DD-4712-9F10-89619AA75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52E2-F954-4220-8D7B-80F669007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25520" y="122040"/>
            <a:ext cx="8261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32F1-A2F5-4D11-9855-6992A6BA8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04800"/>
            <a:ext cx="40158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7368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4E6A-BB12-4E1B-AECC-28CE862EA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40158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7368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4DD3-6B0A-423C-A35B-FC423201C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73680"/>
            <a:ext cx="822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96AC-5A6B-48F2-AAE9-7BBFD0401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0" y="6454800"/>
            <a:ext cx="9144000" cy="4032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Palatino Linotype"/>
              </a:rPr>
              <a:t>Click to edit the title text format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04800"/>
            <a:ext cx="82296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-36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505200"/>
            <a:ext cx="2895840" cy="3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Информа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79720" y="6505200"/>
            <a:ext cx="2133720" cy="3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4EF04-26DF-4FD7-859E-00E1EA991A46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3720" y="1268280"/>
            <a:ext cx="8218800" cy="0"/>
          </a:xfrm>
          <a:prstGeom prst="line">
            <a:avLst/>
          </a:prstGeom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9"/>
          <p:cNvSpPr/>
          <p:nvPr/>
        </p:nvSpPr>
        <p:spPr>
          <a:xfrm>
            <a:off x="423720" y="1312920"/>
            <a:ext cx="4186440" cy="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Date Placeholder 2"/>
          <p:cNvSpPr/>
          <p:nvPr/>
        </p:nvSpPr>
        <p:spPr>
          <a:xfrm>
            <a:off x="0" y="6424560"/>
            <a:ext cx="39895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ooter Placeholder 3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lide Number Placeholder 4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7F14D-F577-4485-BC95-4A071572F47E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2053800"/>
            <a:ext cx="9144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sr-CS" sz="4000" spc="-1" strike="noStrike">
                <a:solidFill>
                  <a:srgbClr val="000066"/>
                </a:solidFill>
                <a:latin typeface="Palatino Linotype"/>
              </a:rPr>
              <a:t>ХИРУРШКО ВАЂЕЊЕ ИМПАКТИРАНИХ ЗУБА</a:t>
            </a:r>
            <a:r>
              <a:rPr b="1" lang="en-US" sz="4000" spc="-1" strike="noStrike">
                <a:solidFill>
                  <a:srgbClr val="000066"/>
                </a:solidFill>
                <a:latin typeface="Palatino Linotype"/>
              </a:rPr>
              <a:t>    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263160" y="4060440"/>
            <a:ext cx="8642520" cy="17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Palatino Linotype"/>
              </a:rPr>
              <a:t>Назив предмета:</a:t>
            </a:r>
            <a:r>
              <a:rPr b="1" lang="sr-Latn-CS" sz="14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1" lang="sr-Latn-C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lang="sr-CS" sz="14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400" spc="-1" strike="noStrike">
                <a:solidFill>
                  <a:srgbClr val="000000"/>
                </a:solidFill>
                <a:latin typeface="Palatino Linotype"/>
              </a:rPr>
              <a:t>7</a:t>
            </a:r>
            <a:r>
              <a:rPr b="1" lang="sr-Latn-C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lang="sr-CS" sz="1400" spc="-1" strike="noStrike">
                <a:solidFill>
                  <a:srgbClr val="000000"/>
                </a:solidFill>
                <a:latin typeface="Palatino Linotype"/>
              </a:rPr>
              <a:t>Час</a:t>
            </a:r>
            <a:r>
              <a:rPr b="1" lang="sr-Latn-CS" sz="1400" spc="-1" strike="noStrike">
                <a:solidFill>
                  <a:srgbClr val="000000"/>
                </a:solidFill>
                <a:latin typeface="Palatino Linotype"/>
              </a:rPr>
              <a:t>: </a:t>
            </a:r>
            <a:r>
              <a:rPr b="1" lang="sr-CS" sz="1400" spc="-1" strike="noStrike">
                <a:solidFill>
                  <a:srgbClr val="000000"/>
                </a:solidFill>
                <a:latin typeface="Palatino Linotype"/>
              </a:rPr>
              <a:t> 19 - 21</a:t>
            </a: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Palatino Linotype"/>
              </a:rPr>
              <a:t>Тематске јединице: </a:t>
            </a:r>
            <a:r>
              <a:rPr b="0" lang="sr-Latn-C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lang="sr-CS" sz="1400" spc="-1" strike="noStrike">
                <a:solidFill>
                  <a:srgbClr val="000000"/>
                </a:solidFill>
                <a:latin typeface="Palatino Linotype"/>
              </a:rPr>
              <a:t>Узроци импакције зуба, дијагноза и третман импактираних зуба, вађење         </a:t>
            </a:r>
            <a:r>
              <a:rPr b="1" lang="sr-C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lang="sr-C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lang="sr-C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lang="sr-CS" sz="1400" spc="-1" strike="noStrike">
                <a:solidFill>
                  <a:srgbClr val="000000"/>
                </a:solidFill>
                <a:latin typeface="Palatino Linotype"/>
              </a:rPr>
              <a:t>импактираних зуба, компликације изазване вађењем импактираних зуба </a:t>
            </a: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Palatino Linotype"/>
              </a:rPr>
              <a:t>                  </a:t>
            </a:r>
            <a:r>
              <a:rPr b="0" lang="fr-FR" sz="1400" spc="-1" strike="noStrike">
                <a:solidFill>
                  <a:srgbClr val="000000"/>
                </a:solidFill>
                <a:latin typeface="Palatino Linotype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Palatino Linotype"/>
              </a:rPr>
              <a:t>Припремио</a:t>
            </a:r>
            <a:r>
              <a:rPr b="0" lang="sr-Latn-CS" sz="1400" spc="-1" strike="noStrike">
                <a:solidFill>
                  <a:srgbClr val="000000"/>
                </a:solidFill>
                <a:latin typeface="Palatino Linotype"/>
              </a:rPr>
              <a:t>: </a:t>
            </a:r>
            <a:r>
              <a:rPr b="0" lang="sr-Latn-C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i="1" lang="sr-CS" sz="1400" spc="-1" strike="noStrike">
                <a:solidFill>
                  <a:srgbClr val="000000"/>
                </a:solidFill>
                <a:latin typeface="Palatino Linotype"/>
              </a:rPr>
              <a:t>Доц. др Мирослав Васовић</a:t>
            </a: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6" name="Line 4"/>
          <p:cNvSpPr/>
          <p:nvPr/>
        </p:nvSpPr>
        <p:spPr>
          <a:xfrm>
            <a:off x="936720" y="3838680"/>
            <a:ext cx="4782960" cy="1440"/>
          </a:xfrm>
          <a:prstGeom prst="line">
            <a:avLst/>
          </a:prstGeom>
          <a:ln w="38160">
            <a:solidFill>
              <a:srgbClr val="fee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0" y="0"/>
            <a:ext cx="9144000" cy="194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7"/>
          <p:cNvSpPr/>
          <p:nvPr/>
        </p:nvSpPr>
        <p:spPr>
          <a:xfrm>
            <a:off x="0" y="1995480"/>
            <a:ext cx="914400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591480" y="6180120"/>
            <a:ext cx="782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Copyright © 201</a:t>
            </a:r>
            <a:r>
              <a:rPr b="0" lang="sr-Latn-RS" sz="1000" spc="-1" strike="noStrike">
                <a:solidFill>
                  <a:srgbClr val="000000"/>
                </a:solidFill>
                <a:latin typeface="Palatino Linotype"/>
              </a:rPr>
              <a:t>9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– Факултет медицинских наука Универзитета у Крагујевцу. Копирање и умножавање није дозвољено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memo grb copy"/>
          <p:cNvPicPr/>
          <p:nvPr/>
        </p:nvPicPr>
        <p:blipFill>
          <a:blip r:embed="rId1"/>
          <a:stretch/>
        </p:blipFill>
        <p:spPr>
          <a:xfrm>
            <a:off x="209520" y="166680"/>
            <a:ext cx="8737560" cy="160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Date Placeholder 3"/>
          <p:cNvSpPr/>
          <p:nvPr/>
        </p:nvSpPr>
        <p:spPr>
          <a:xfrm>
            <a:off x="0" y="6424560"/>
            <a:ext cx="39258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2F7CA-CD60-4C81-9C58-BE3521DE56ED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Третман импактираних зуб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08" name="TextBox 7"/>
          <p:cNvSpPr/>
          <p:nvPr/>
        </p:nvSpPr>
        <p:spPr>
          <a:xfrm>
            <a:off x="433440" y="1455840"/>
            <a:ext cx="8253360" cy="449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Третман импактираних зуба може бити усмерен ка њиховом чувању и потпомагању њиховог ницања или ка њиховом вађењу, а у извесним случајевима се третман одлаже или се од третмана одустај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Третман импактираног зуба може бити усмерен н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Хируршко – ортодонтски поступа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рофилактичко вађењ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Терапијско вађењ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Одлагање третмана или одустајање од третма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Date Placeholder 3"/>
          <p:cNvSpPr/>
          <p:nvPr/>
        </p:nvSpPr>
        <p:spPr>
          <a:xfrm>
            <a:off x="0" y="6424560"/>
            <a:ext cx="3814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06057-7BAB-4524-8F18-D62526240B2E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Третман импактираних зуб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13" name="TextBox 8"/>
          <p:cNvSpPr/>
          <p:nvPr/>
        </p:nvSpPr>
        <p:spPr>
          <a:xfrm>
            <a:off x="444600" y="1623960"/>
            <a:ext cx="8218440" cy="43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Третман неизниклих зуба зависи првенствено од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роцене могућности њиховог ницањ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Старости пацијен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Општег здравственог стањ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рисутних симптома и патолошких проме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Третман импактираних зуб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15" name="Date Placeholder 3"/>
          <p:cNvSpPr/>
          <p:nvPr/>
        </p:nvSpPr>
        <p:spPr>
          <a:xfrm>
            <a:off x="0" y="6424560"/>
            <a:ext cx="3894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D65CE-FE68-4A6D-9BF1-436E395E0492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9"/>
          <p:cNvSpPr/>
          <p:nvPr/>
        </p:nvSpPr>
        <p:spPr>
          <a:xfrm>
            <a:off x="420840" y="1455840"/>
            <a:ext cx="82533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ИНДИКАЦИЈЕ ЗА ТЕРАПИЈСКО ВАЂЕЊЕ ИМПАКТИРАНИХ ЗУБ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Несумњива индикација за терапијско вађење импактираних зуба постоје када се јави нека од компликација или ако би требало благовремено спречити њихов настана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Перикоронитис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редставља запаљење гингиве око зуба. Најчешће захвата доње умњаке, првенствено ако су полуимпактирани и ако им је део круне ван кости прекривена меким ткив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Третман импактираних зуб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20" name="Date Placeholder 3"/>
          <p:cNvSpPr/>
          <p:nvPr/>
        </p:nvSpPr>
        <p:spPr>
          <a:xfrm>
            <a:off x="0" y="6424560"/>
            <a:ext cx="37828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C48C6-5A8A-4E32-B3FC-F40770469813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6"/>
          <p:cNvSpPr/>
          <p:nvPr/>
        </p:nvSpPr>
        <p:spPr>
          <a:xfrm>
            <a:off x="469800" y="1731960"/>
            <a:ext cx="8460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Због слабог самочишћења, храна запада у простор између оклузалне површине зуба и гингиве, изазивајући њену инфламацију, коју додатно трауматизира зуб антагонис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7"/>
          <p:cNvSpPr/>
          <p:nvPr/>
        </p:nvSpPr>
        <p:spPr>
          <a:xfrm>
            <a:off x="577800" y="5200560"/>
            <a:ext cx="835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Вађење зуба треба  учинити што пре, препоручљиво је и пре санирања знакова инфекције, због могућег ширења инфекције у околне просторе. Ординирати антибиотике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8" descr="D:\User\Korisnik\Downloads\m4_slide18_pericor2.gif"/>
          <p:cNvPicPr/>
          <p:nvPr/>
        </p:nvPicPr>
        <p:blipFill>
          <a:blip r:embed="rId1"/>
          <a:stretch/>
        </p:blipFill>
        <p:spPr>
          <a:xfrm>
            <a:off x="2808360" y="2957400"/>
            <a:ext cx="2843280" cy="21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25160" y="122040"/>
            <a:ext cx="8418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Третман импактираних зуб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27" name="Date Placeholder 3"/>
          <p:cNvSpPr/>
          <p:nvPr/>
        </p:nvSpPr>
        <p:spPr>
          <a:xfrm>
            <a:off x="0" y="6424560"/>
            <a:ext cx="38307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F61C2-CB9F-40F6-BD18-EAD14ED712CF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10"/>
          <p:cNvSpPr/>
          <p:nvPr/>
        </p:nvSpPr>
        <p:spPr>
          <a:xfrm>
            <a:off x="457200" y="1684440"/>
            <a:ext cx="81327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Стварање пародонталног џепа око суседног зуб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Најчешће се јавља са дисталне стране другог молара, ако је реч о импактираном трећем молару или са дисталне стране латералног секутића ако је импактиран очња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6" descr="dzep.jpg"/>
          <p:cNvPicPr/>
          <p:nvPr/>
        </p:nvPicPr>
        <p:blipFill>
          <a:blip r:embed="rId1"/>
          <a:stretch/>
        </p:blipFill>
        <p:spPr>
          <a:xfrm>
            <a:off x="3048120" y="3570120"/>
            <a:ext cx="2727360" cy="25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Третман импактираних зуб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33" name="Date Placeholder 3"/>
          <p:cNvSpPr/>
          <p:nvPr/>
        </p:nvSpPr>
        <p:spPr>
          <a:xfrm>
            <a:off x="0" y="6424560"/>
            <a:ext cx="38624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229B0-C8A5-456F-B1F2-F6E348C2FABE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9"/>
          <p:cNvSpPr/>
          <p:nvPr/>
        </p:nvSpPr>
        <p:spPr>
          <a:xfrm>
            <a:off x="457200" y="1708200"/>
            <a:ext cx="81453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Карије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Импактирани зуб може да изазове каријес суседног зуба, поготову уколико је у контакту са њим. Каријес може да се јави и на самом импактираном зубу, поготову ако је полуимпактира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Ресорпција корена суседног зуб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Потреба израде протетичког ра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Бо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Date Placeholder 3"/>
          <p:cNvSpPr/>
          <p:nvPr/>
        </p:nvSpPr>
        <p:spPr>
          <a:xfrm>
            <a:off x="0" y="6424560"/>
            <a:ext cx="3798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CF90C-6C02-4C55-A8E0-E72A5964A625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Третман импактираних зуб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41" name="TextBox 9"/>
          <p:cNvSpPr/>
          <p:nvPr/>
        </p:nvSpPr>
        <p:spPr>
          <a:xfrm>
            <a:off x="469800" y="1647720"/>
            <a:ext cx="814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Патолошки процеси ( цисте, тумори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0" descr="C:\Users\Zoran\Downloads\oralna hirurgija\slike\imagelo.jpg"/>
          <p:cNvPicPr/>
          <p:nvPr/>
        </p:nvPicPr>
        <p:blipFill>
          <a:blip r:embed="rId1"/>
          <a:stretch/>
        </p:blipFill>
        <p:spPr>
          <a:xfrm>
            <a:off x="1878120" y="2155680"/>
            <a:ext cx="5362560" cy="21243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1" descr="C:\Users\Zoran\Downloads\oralna hirurgija\slike\imagesvbvc.jpg"/>
          <p:cNvPicPr/>
          <p:nvPr/>
        </p:nvPicPr>
        <p:blipFill>
          <a:blip r:embed="rId2"/>
          <a:stretch/>
        </p:blipFill>
        <p:spPr>
          <a:xfrm>
            <a:off x="1868400" y="4282920"/>
            <a:ext cx="5359320" cy="205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Date Placeholder 3"/>
          <p:cNvSpPr/>
          <p:nvPr/>
        </p:nvSpPr>
        <p:spPr>
          <a:xfrm>
            <a:off x="0" y="6424560"/>
            <a:ext cx="3798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F3DA1-FB08-4A67-B387-EF96BCC84462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53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Третман импактираних зуб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48" name="TextBox 6"/>
          <p:cNvSpPr/>
          <p:nvPr/>
        </p:nvSpPr>
        <p:spPr>
          <a:xfrm>
            <a:off x="444600" y="1623960"/>
            <a:ext cx="82548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Потенцирање ортодонтских аномал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онекад је потребно вађење појединих импактираних зуба пре почетка ортодонтског лечења, чиме би се онемогућило њихово негативно деловање на процес санирања аномалије (најчешће тескобе зубног низ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Зуб у линији фрактуре вилиц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Уколико се, приликом фрактуре вилице, импактирани зуб нађе у линији фрактуре, његово вађење је готово по правилу индиковано да би се санација фрактуре постигла без компликациј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Date Placeholder 3"/>
          <p:cNvSpPr/>
          <p:nvPr/>
        </p:nvSpPr>
        <p:spPr>
          <a:xfrm>
            <a:off x="0" y="6424560"/>
            <a:ext cx="37688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08704-4CB5-477A-97CD-53622EB11A9A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Вађење импактираних зуб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53" name="TextBox 6"/>
          <p:cNvSpPr/>
          <p:nvPr/>
        </p:nvSpPr>
        <p:spPr>
          <a:xfrm>
            <a:off x="1166760" y="1949400"/>
            <a:ext cx="18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6"/>
          <p:cNvSpPr/>
          <p:nvPr/>
        </p:nvSpPr>
        <p:spPr>
          <a:xfrm>
            <a:off x="469800" y="1731960"/>
            <a:ext cx="81694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Вађење импактираних зуба понекад може бити лако, међутим, у извесним ситуацијама ова интервенција се може пролонгирати што зависи од низа чинилаца који на њу утичу и који је усмеравај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000" spc="-1" strike="noStrike">
                <a:solidFill>
                  <a:srgbClr val="000000"/>
                </a:solidFill>
                <a:latin typeface="Palatino Linotype"/>
              </a:rPr>
              <a:t>Морфологија зуба, формираност корена, компактност и густина кости, близак контакт са суседним зубом, близина максиларног синуса и мандибуларног кана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Date Placeholder 3"/>
          <p:cNvSpPr/>
          <p:nvPr/>
        </p:nvSpPr>
        <p:spPr>
          <a:xfrm>
            <a:off x="0" y="6424560"/>
            <a:ext cx="38624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7E967-2315-42D7-BA17-26B652B52ADA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Хируршко вађење импактираних доњих умњак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59" name="TextBox 6"/>
          <p:cNvSpPr/>
          <p:nvPr/>
        </p:nvSpPr>
        <p:spPr>
          <a:xfrm>
            <a:off x="469800" y="1492200"/>
            <a:ext cx="81583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редставља једну од најчешћих орално-хируршких интервенциј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ре поступка вађења потребно је детаљно се упознати са клиничким изгледом зуба, његовом морфологијом, односом са околним анатомским структура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0000"/>
                </a:solidFill>
                <a:latin typeface="Palatino Linotype"/>
              </a:rPr>
              <a:t>ВИНТЕРОВА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класификација импактираног доњег умњака у односу према другом молару и оклузалној равни (</a:t>
            </a:r>
            <a:r>
              <a:rPr b="0" lang="sr-CS" sz="2000" spc="-1" strike="noStrike">
                <a:solidFill>
                  <a:srgbClr val="00b050"/>
                </a:solidFill>
                <a:latin typeface="Palatino Linotype"/>
              </a:rPr>
              <a:t>вертикалан, хоризонталан,</a:t>
            </a:r>
            <a:r>
              <a:rPr b="0" lang="en-US" sz="2000" spc="-1" strike="noStrike">
                <a:solidFill>
                  <a:srgbClr val="00b05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b050"/>
                </a:solidFill>
                <a:latin typeface="Palatino Linotype"/>
              </a:rPr>
              <a:t>мезиоангуларан,</a:t>
            </a:r>
            <a:r>
              <a:rPr b="0" lang="en-US" sz="2000" spc="-1" strike="noStrike">
                <a:solidFill>
                  <a:srgbClr val="00b05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b050"/>
                </a:solidFill>
                <a:latin typeface="Palatino Linotype"/>
              </a:rPr>
              <a:t>дистоангуларан, букални, лингвални, обрнут и атипични положај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7" descr="C:\Users\Zoran\Downloads\oralna hirurgija\slike\imagesvfds.jpg"/>
          <p:cNvPicPr/>
          <p:nvPr/>
        </p:nvPicPr>
        <p:blipFill>
          <a:blip r:embed="rId1"/>
          <a:stretch/>
        </p:blipFill>
        <p:spPr>
          <a:xfrm>
            <a:off x="2790720" y="4403880"/>
            <a:ext cx="4091040" cy="205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Date Placeholder 3"/>
          <p:cNvSpPr/>
          <p:nvPr/>
        </p:nvSpPr>
        <p:spPr>
          <a:xfrm>
            <a:off x="0" y="6424560"/>
            <a:ext cx="38512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EFB35-1A4D-4D5D-95AB-B249B990ADB8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Појам импакције зуб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420840" y="1733400"/>
            <a:ext cx="82422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Термин </a:t>
            </a:r>
            <a:r>
              <a:rPr b="1" i="1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импактирани зуб</a:t>
            </a:r>
            <a:r>
              <a:rPr b="1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означава зуб који није никао зато што му је нормалан пут ницања ометен или блокиран неком препреком, која може бити други зуб, вилична кост или нека патолошка творевина у кости или меком ткиву на путу његовог ницањ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Неизникли зуб </a:t>
            </a: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означава да зуб није видљив у усној шупљини приликом клиничког прегледа, без обзира на разлоге његовог одсуства или разматрања могућности да он никне у времену које је за то предвиђе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Делимично изникли зуб </a:t>
            </a: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или полуимпактирани зуб, означава се зуб који је делимично видљив у усној шупљини, а  делимично је прекривен меким ткив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Date Placeholder 3"/>
          <p:cNvSpPr/>
          <p:nvPr/>
        </p:nvSpPr>
        <p:spPr>
          <a:xfrm>
            <a:off x="0" y="6424560"/>
            <a:ext cx="37688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2A202-69AE-4704-8C2C-59046427E516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71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Хируршко вађење импактираних доњих умњак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65" name="TextBox 6"/>
          <p:cNvSpPr/>
          <p:nvPr/>
        </p:nvSpPr>
        <p:spPr>
          <a:xfrm>
            <a:off x="457200" y="1671480"/>
            <a:ext cx="81691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Динамичка процена предстојеће интервенције врши се обрнутим редом од реда поступака при самом вађењу зуб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А) процену пута извлачења зуб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Б) уочавање препрека да би се он испоштова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Ц) начин превазилажења уочених препре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Д) технику вађења зуб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Е) планирање одговарајућег мукопериосталног режњ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7" descr="C:\Users\Zoran\Downloads\oralna hirurgija\slike\imagespopopo.jpg"/>
          <p:cNvPicPr/>
          <p:nvPr/>
        </p:nvPicPr>
        <p:blipFill>
          <a:blip r:embed="rId1"/>
          <a:srcRect l="6363" t="27922" r="27034" b="15489"/>
          <a:stretch/>
        </p:blipFill>
        <p:spPr>
          <a:xfrm>
            <a:off x="2346480" y="4259160"/>
            <a:ext cx="381924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Date Placeholder 3"/>
          <p:cNvSpPr/>
          <p:nvPr/>
        </p:nvSpPr>
        <p:spPr>
          <a:xfrm>
            <a:off x="0" y="6424560"/>
            <a:ext cx="3814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5E4A4-E62E-4787-B50D-C22235CD2D3F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Хируршко вађење импактираних доњих умњак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71" name="TextBox 7"/>
          <p:cNvSpPr/>
          <p:nvPr/>
        </p:nvSpPr>
        <p:spPr>
          <a:xfrm>
            <a:off x="444600" y="1708200"/>
            <a:ext cx="8205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Близина мандибуларног канала захтева посебну пажњу приликом планирања вађења доњег импактираног трећег мола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8" descr="C:\Users\Zoran\Downloads\oralna hirurgija\slike\imagesjhjh.jpg"/>
          <p:cNvPicPr/>
          <p:nvPr/>
        </p:nvPicPr>
        <p:blipFill>
          <a:blip r:embed="rId1"/>
          <a:stretch/>
        </p:blipFill>
        <p:spPr>
          <a:xfrm>
            <a:off x="357120" y="2376360"/>
            <a:ext cx="3672000" cy="40687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4" descr="784_2008_200_Fig3_HTML"/>
          <p:cNvPicPr/>
          <p:nvPr/>
        </p:nvPicPr>
        <p:blipFill>
          <a:blip r:embed="rId2"/>
          <a:stretch/>
        </p:blipFill>
        <p:spPr>
          <a:xfrm>
            <a:off x="4167360" y="2463840"/>
            <a:ext cx="4751280" cy="195588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10"/>
          <p:cNvSpPr/>
          <p:nvPr/>
        </p:nvSpPr>
        <p:spPr>
          <a:xfrm>
            <a:off x="4138560" y="469908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0000"/>
                </a:solidFill>
                <a:latin typeface="Palatino Linotype"/>
                <a:ea typeface="Times New Roman"/>
              </a:rPr>
              <a:t>Ако светлина траке мандибуларног канала укршта сенку коренова умњака без промене интензитета његове сенке и уз очување линија крова и пода канала, највероватније се ради само о суперпозицији</a:t>
            </a:r>
            <a:r>
              <a:rPr b="0" lang="en-US" sz="1800" spc="-1" strike="noStrike">
                <a:solidFill>
                  <a:srgbClr val="ff0000"/>
                </a:solidFill>
                <a:latin typeface="Palatino Linotype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Date Placeholder 3"/>
          <p:cNvSpPr/>
          <p:nvPr/>
        </p:nvSpPr>
        <p:spPr>
          <a:xfrm>
            <a:off x="0" y="6424560"/>
            <a:ext cx="37530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A1723-3C77-4AE3-9C60-7439E5E63A54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Хируршко вађење импактираних доњих умњак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pic>
        <p:nvPicPr>
          <p:cNvPr id="179" name="Picture 7" descr="impakcije044"/>
          <p:cNvPicPr/>
          <p:nvPr/>
        </p:nvPicPr>
        <p:blipFill>
          <a:blip r:embed="rId1"/>
          <a:srcRect l="0" t="3273" r="19289" b="50580"/>
          <a:stretch/>
        </p:blipFill>
        <p:spPr>
          <a:xfrm>
            <a:off x="2571840" y="1641600"/>
            <a:ext cx="3456000" cy="2863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80" name="Rectangle 9"/>
          <p:cNvSpPr/>
          <p:nvPr/>
        </p:nvSpPr>
        <p:spPr>
          <a:xfrm>
            <a:off x="1182600" y="4795920"/>
            <a:ext cx="642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беличасте линије пода и крова канала се губе, а интензитет сенке корена је слабиј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Date Placeholder 3"/>
          <p:cNvSpPr/>
          <p:nvPr/>
        </p:nvSpPr>
        <p:spPr>
          <a:xfrm>
            <a:off x="0" y="6424560"/>
            <a:ext cx="39099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0581C-ED9D-46E7-B55D-C2A212179BD0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Хируршко вађење импактираних доњих умњак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pic>
        <p:nvPicPr>
          <p:cNvPr id="185" name="Picture 9" descr="C:\Documents and Settings\Biocanin\Desktop\Slika0368.jpg"/>
          <p:cNvPicPr/>
          <p:nvPr/>
        </p:nvPicPr>
        <p:blipFill>
          <a:blip r:embed="rId1"/>
          <a:srcRect l="0" t="0" r="0" b="21333"/>
          <a:stretch/>
        </p:blipFill>
        <p:spPr>
          <a:xfrm>
            <a:off x="2674800" y="1319040"/>
            <a:ext cx="3444840" cy="3613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86" name="Rectangle 8"/>
          <p:cNvSpPr/>
          <p:nvPr/>
        </p:nvSpPr>
        <p:spPr>
          <a:xfrm>
            <a:off x="1335240" y="4952880"/>
            <a:ext cx="6605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0000"/>
                </a:solidFill>
                <a:latin typeface="Palatino Linotype"/>
                <a:ea typeface="Times New Roman"/>
              </a:rPr>
              <a:t>Затамњење у виду „црне траке“ мандибуларног канала која укршта корен умњака - бочни контакт мандибуларног канала и коренова умњака или перфорација лингвалног кортекса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Date Placeholder 3"/>
          <p:cNvSpPr/>
          <p:nvPr/>
        </p:nvSpPr>
        <p:spPr>
          <a:xfrm>
            <a:off x="0" y="6424560"/>
            <a:ext cx="40356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4665D-87EC-4AEC-BD26-35E2AB341ACA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41360" y="140760"/>
            <a:ext cx="8702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Хируршко вађење импактираних доњих умњак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pic>
        <p:nvPicPr>
          <p:cNvPr id="191" name="Picture 6" descr="C:\Users\Vladimir\Desktop\mandibularni kanal i treci molar\slike\juxta apical radiolucency.jpg"/>
          <p:cNvPicPr/>
          <p:nvPr/>
        </p:nvPicPr>
        <p:blipFill>
          <a:blip r:embed="rId1"/>
          <a:stretch/>
        </p:blipFill>
        <p:spPr>
          <a:xfrm>
            <a:off x="2874960" y="3754440"/>
            <a:ext cx="3595680" cy="2546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92" name="Rectangle 7"/>
          <p:cNvSpPr/>
          <p:nvPr/>
        </p:nvSpPr>
        <p:spPr>
          <a:xfrm>
            <a:off x="1119240" y="1685880"/>
            <a:ext cx="6581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0000"/>
                </a:solidFill>
                <a:latin typeface="Palatino Linotype"/>
                <a:ea typeface="Times New Roman"/>
              </a:rPr>
              <a:t>Апикални контакт </a:t>
            </a:r>
            <a:r>
              <a:rPr b="0" lang="sr-CS" sz="2400" spc="-1" strike="noStrike">
                <a:solidFill>
                  <a:srgbClr val="ff0000"/>
                </a:solidFill>
                <a:latin typeface="Palatino Linotype"/>
              </a:rPr>
              <a:t>- </a:t>
            </a:r>
            <a:r>
              <a:rPr b="0" lang="sr-CS" sz="24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тракасто расветљење око апекса корена, некад са губитком беличасте линије крова канала тзв. 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„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juxta apical radiolucency</a:t>
            </a:r>
            <a:r>
              <a:rPr b="0" lang="sr-Latn-CS" sz="24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Date Placeholder 3"/>
          <p:cNvSpPr/>
          <p:nvPr/>
        </p:nvSpPr>
        <p:spPr>
          <a:xfrm>
            <a:off x="0" y="6424560"/>
            <a:ext cx="38624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DB85F-A4A7-4BC1-83E8-E83BFFCC45E9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Хируршко вађење импактираних доњих умњак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97" name="TextBox 8"/>
          <p:cNvSpPr/>
          <p:nvPr/>
        </p:nvSpPr>
        <p:spPr>
          <a:xfrm>
            <a:off x="444600" y="2093760"/>
            <a:ext cx="8205840" cy="35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Palatino Linotype"/>
              </a:rPr>
              <a:t>ХИРУРШКИ ПОСТУП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формирање мукопериосталног режњ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стварање приступа зубу уклањањем одређене количине к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вађење зуба применом сепарације коренова његових делова или зуба у цели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обрада и дебридман ра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Date Placeholder 3"/>
          <p:cNvSpPr/>
          <p:nvPr/>
        </p:nvSpPr>
        <p:spPr>
          <a:xfrm>
            <a:off x="0" y="6424560"/>
            <a:ext cx="39258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9E5E3-40DD-47D4-9752-4A9C7C1E0078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Хируршко вађење импактираних доњих умњак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202" name="TextBox 7"/>
          <p:cNvSpPr/>
          <p:nvPr/>
        </p:nvSpPr>
        <p:spPr>
          <a:xfrm>
            <a:off x="444600" y="1684440"/>
            <a:ext cx="820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ФОРМИРАЊЕ РЕЖЊ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7" descr="C:\Users\Zoran\Downloads\oralna hirurgija\slike\download (24).jpg"/>
          <p:cNvPicPr/>
          <p:nvPr/>
        </p:nvPicPr>
        <p:blipFill>
          <a:blip r:embed="rId1"/>
          <a:stretch/>
        </p:blipFill>
        <p:spPr>
          <a:xfrm>
            <a:off x="504720" y="2351160"/>
            <a:ext cx="3318120" cy="215892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8" descr="C:\Users\Zoran\Downloads\oralna hirurgija\slike\imagesJJH.jpg"/>
          <p:cNvPicPr/>
          <p:nvPr/>
        </p:nvPicPr>
        <p:blipFill>
          <a:blip r:embed="rId2"/>
          <a:stretch/>
        </p:blipFill>
        <p:spPr>
          <a:xfrm>
            <a:off x="5396040" y="2308320"/>
            <a:ext cx="3170160" cy="21430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9" descr="C:\Users\Zoran\Downloads\oralna hirurgija\slike\imagesGTR.jpg"/>
          <p:cNvPicPr/>
          <p:nvPr/>
        </p:nvPicPr>
        <p:blipFill>
          <a:blip r:embed="rId3"/>
          <a:srcRect l="7891" t="4006" r="6978" b="6060"/>
          <a:stretch/>
        </p:blipFill>
        <p:spPr>
          <a:xfrm>
            <a:off x="2935440" y="4222800"/>
            <a:ext cx="3033720" cy="216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Date Placeholder 3"/>
          <p:cNvSpPr/>
          <p:nvPr/>
        </p:nvSpPr>
        <p:spPr>
          <a:xfrm>
            <a:off x="0" y="6424560"/>
            <a:ext cx="39099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Latn-CS" sz="1000" spc="-1" strike="noStrike">
                <a:solidFill>
                  <a:srgbClr val="000000"/>
                </a:solidFill>
                <a:latin typeface="Palatino Linotype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4D45A-6451-453A-81A2-BA2B901E48A6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Хируршко вађење импактираних доњих умњак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pic>
        <p:nvPicPr>
          <p:cNvPr id="210" name="Picture 8" descr="C:\Users\Zoran\Downloads\oralna hirurgija\slike\imagesNNNN.jpg"/>
          <p:cNvPicPr/>
          <p:nvPr/>
        </p:nvPicPr>
        <p:blipFill>
          <a:blip r:embed="rId1"/>
          <a:stretch/>
        </p:blipFill>
        <p:spPr>
          <a:xfrm>
            <a:off x="2376360" y="2517840"/>
            <a:ext cx="4181760" cy="3130560"/>
          </a:xfrm>
          <a:prstGeom prst="rect">
            <a:avLst/>
          </a:prstGeom>
          <a:ln w="0">
            <a:noFill/>
          </a:ln>
        </p:spPr>
      </p:pic>
      <p:sp>
        <p:nvSpPr>
          <p:cNvPr id="211" name="TextBox 8"/>
          <p:cNvSpPr/>
          <p:nvPr/>
        </p:nvSpPr>
        <p:spPr>
          <a:xfrm>
            <a:off x="517680" y="1612800"/>
            <a:ext cx="792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УКЛАЊАЊЕ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К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Date Placeholder 3"/>
          <p:cNvSpPr/>
          <p:nvPr/>
        </p:nvSpPr>
        <p:spPr>
          <a:xfrm>
            <a:off x="0" y="6424560"/>
            <a:ext cx="38466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E1F7C-30A4-4C3B-BECF-9BD754EEEB3E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Хируршко вађење импактираних доњих умњак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pic>
        <p:nvPicPr>
          <p:cNvPr id="216" name="Picture 9" descr="C:\Users\Zoran\Downloads\oralna hirurgija\slike\download (25).jpg"/>
          <p:cNvPicPr/>
          <p:nvPr/>
        </p:nvPicPr>
        <p:blipFill>
          <a:blip r:embed="rId1"/>
          <a:stretch/>
        </p:blipFill>
        <p:spPr>
          <a:xfrm>
            <a:off x="0" y="2149560"/>
            <a:ext cx="3238560" cy="2374920"/>
          </a:xfrm>
          <a:prstGeom prst="rect">
            <a:avLst/>
          </a:prstGeom>
          <a:ln w="0">
            <a:noFill/>
          </a:ln>
        </p:spPr>
      </p:pic>
      <p:sp>
        <p:nvSpPr>
          <p:cNvPr id="217" name="TextBox 9"/>
          <p:cNvSpPr/>
          <p:nvPr/>
        </p:nvSpPr>
        <p:spPr>
          <a:xfrm>
            <a:off x="457200" y="1612800"/>
            <a:ext cx="814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ВАЂЕЊЕ ЗУБ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10" descr="C:\Users\Zoran\Downloads\oralna hirurgija\slike\431958813_640.jpg"/>
          <p:cNvPicPr/>
          <p:nvPr/>
        </p:nvPicPr>
        <p:blipFill>
          <a:blip r:embed="rId2"/>
          <a:srcRect l="846" t="0" r="0" b="10323"/>
          <a:stretch/>
        </p:blipFill>
        <p:spPr>
          <a:xfrm>
            <a:off x="5411880" y="1273320"/>
            <a:ext cx="3570120" cy="242064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1" descr="C:\Users\Zoran\Downloads\oralna hirurgija\slike\431958658_640.jpg"/>
          <p:cNvPicPr/>
          <p:nvPr/>
        </p:nvPicPr>
        <p:blipFill>
          <a:blip r:embed="rId3"/>
          <a:srcRect l="22238" t="0" r="-44" b="15863"/>
          <a:stretch/>
        </p:blipFill>
        <p:spPr>
          <a:xfrm>
            <a:off x="3274920" y="3741840"/>
            <a:ext cx="3324240" cy="269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Date Placeholder 3"/>
          <p:cNvSpPr/>
          <p:nvPr/>
        </p:nvSpPr>
        <p:spPr>
          <a:xfrm>
            <a:off x="0" y="6424560"/>
            <a:ext cx="39099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F3301-3649-49FC-B8C7-5F4496A095F1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Хируршко вађење импактираних доњих умњак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224" name="TextBox 7"/>
          <p:cNvSpPr/>
          <p:nvPr/>
        </p:nvSpPr>
        <p:spPr>
          <a:xfrm>
            <a:off x="444600" y="1697040"/>
            <a:ext cx="821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ДЕБРИДМАН РА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8" descr="C:\Users\Zoran\Downloads\oralna hirurgija\slike\images55454.jpg"/>
          <p:cNvPicPr/>
          <p:nvPr/>
        </p:nvPicPr>
        <p:blipFill>
          <a:blip r:embed="rId1"/>
          <a:stretch/>
        </p:blipFill>
        <p:spPr>
          <a:xfrm>
            <a:off x="426960" y="2709720"/>
            <a:ext cx="3700440" cy="277200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9" descr="C:\Users\Zoran\Downloads\oralna hirurgija\slike\images6665.jpg"/>
          <p:cNvPicPr/>
          <p:nvPr/>
        </p:nvPicPr>
        <p:blipFill>
          <a:blip r:embed="rId2"/>
          <a:srcRect l="2984" t="17426" r="0" b="5451"/>
          <a:stretch/>
        </p:blipFill>
        <p:spPr>
          <a:xfrm>
            <a:off x="4813200" y="2874960"/>
            <a:ext cx="3994200" cy="226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Узроци импакције зуб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67" name="Date Placeholder 3"/>
          <p:cNvSpPr/>
          <p:nvPr/>
        </p:nvSpPr>
        <p:spPr>
          <a:xfrm>
            <a:off x="0" y="6424560"/>
            <a:ext cx="37828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165B3-F666-45E1-AB54-0200AF8BD3F9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7"/>
          <p:cNvSpPr/>
          <p:nvPr/>
        </p:nvSpPr>
        <p:spPr>
          <a:xfrm>
            <a:off x="444600" y="1528920"/>
            <a:ext cx="8181720" cy="59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Разлози за изостанак ницања зуба и његову импакцију нису  у потпуности разјашње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Разлози могу бити бројн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недостатак простора у зубном луку један је од најчешћих фактора који доприносе овој појав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неправилан положај клице зуба може бити узрок изостанка ницања и у случајевима када је простор у зубном луку  довоља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ограничен раст вилица у антеро-постериорном правцу може створити услове за тескобу зуба и импакцију зуба који последњи ничу ( доњи умњаци ) због недостатка простора између  другог молара и рамуса мандибул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Date Placeholder 3"/>
          <p:cNvSpPr/>
          <p:nvPr/>
        </p:nvSpPr>
        <p:spPr>
          <a:xfrm>
            <a:off x="0" y="6424560"/>
            <a:ext cx="37368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376E5-21C0-4C76-8877-C857F81AF9CF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Хируршко вађење импактираних горњих умњак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pic>
        <p:nvPicPr>
          <p:cNvPr id="231" name="Picture 8" descr="C:\Users\Zoran\Downloads\oralna hirurgija\slike\Upper_3rd_Molar_Impaction_Classification_2-578x505.jpg"/>
          <p:cNvPicPr/>
          <p:nvPr/>
        </p:nvPicPr>
        <p:blipFill>
          <a:blip r:embed="rId1"/>
          <a:srcRect l="0" t="0" r="608" b="27737"/>
          <a:stretch/>
        </p:blipFill>
        <p:spPr>
          <a:xfrm>
            <a:off x="1614600" y="2400480"/>
            <a:ext cx="5472000" cy="3474720"/>
          </a:xfrm>
          <a:prstGeom prst="rect">
            <a:avLst/>
          </a:prstGeom>
          <a:ln w="0">
            <a:noFill/>
          </a:ln>
        </p:spPr>
      </p:pic>
      <p:sp>
        <p:nvSpPr>
          <p:cNvPr id="232" name="TextBox 9"/>
          <p:cNvSpPr/>
          <p:nvPr/>
        </p:nvSpPr>
        <p:spPr>
          <a:xfrm>
            <a:off x="469800" y="1563840"/>
            <a:ext cx="816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Клиничка и радиоградска процена хируршког поступ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Date Placeholder 3"/>
          <p:cNvSpPr/>
          <p:nvPr/>
        </p:nvSpPr>
        <p:spPr>
          <a:xfrm>
            <a:off x="0" y="6424560"/>
            <a:ext cx="37530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E5DDC-9E05-44D0-9CAB-9A04CEBA32FC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Хируршко вађење импактираних горњих умњак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237" name="TextBox 6"/>
          <p:cNvSpPr/>
          <p:nvPr/>
        </p:nvSpPr>
        <p:spPr>
          <a:xfrm>
            <a:off x="469800" y="1697040"/>
            <a:ext cx="8120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Инцизија за приступ импактираном зубу се прави по алвеоларном гребену, дистално од другог молара и екстендира косо у форникс од његове букодисталне ивиц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7" descr="C:\Users\Zoran\Downloads\oralna hirurgija\slike\imagesjuuuu.jpg"/>
          <p:cNvPicPr/>
          <p:nvPr/>
        </p:nvPicPr>
        <p:blipFill>
          <a:blip r:embed="rId1"/>
          <a:srcRect l="1152" t="11850" r="53462" b="55925"/>
          <a:stretch/>
        </p:blipFill>
        <p:spPr>
          <a:xfrm>
            <a:off x="1455840" y="2898720"/>
            <a:ext cx="5654520" cy="301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Date Placeholder 3"/>
          <p:cNvSpPr/>
          <p:nvPr/>
        </p:nvSpPr>
        <p:spPr>
          <a:xfrm>
            <a:off x="0" y="6424560"/>
            <a:ext cx="37688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4F894-630F-40E8-9DEE-879CD7823227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25160" y="122040"/>
            <a:ext cx="84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Хируршко вађење импактираних горњих умњак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243" name="TextBox 8"/>
          <p:cNvSpPr/>
          <p:nvPr/>
        </p:nvSpPr>
        <p:spPr>
          <a:xfrm>
            <a:off x="438120" y="1616040"/>
            <a:ext cx="82422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9" descr="C:\Users\Zoran\Downloads\oralna hirurgija\slike\imagesjuuuu.jpg"/>
          <p:cNvPicPr/>
          <p:nvPr/>
        </p:nvPicPr>
        <p:blipFill>
          <a:blip r:embed="rId1"/>
          <a:srcRect l="50495" t="11850" r="2628" b="54606"/>
          <a:stretch/>
        </p:blipFill>
        <p:spPr>
          <a:xfrm>
            <a:off x="2514600" y="1528920"/>
            <a:ext cx="3956040" cy="212220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0" descr="C:\Users\Zoran\Downloads\oralna hirurgija\slike\imagesjuuuu.jpg"/>
          <p:cNvPicPr/>
          <p:nvPr/>
        </p:nvPicPr>
        <p:blipFill>
          <a:blip r:embed="rId2"/>
          <a:srcRect l="0" t="59232" r="1152" b="0"/>
          <a:stretch/>
        </p:blipFill>
        <p:spPr>
          <a:xfrm>
            <a:off x="1920960" y="4054320"/>
            <a:ext cx="5234040" cy="162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Date Placeholder 3"/>
          <p:cNvSpPr/>
          <p:nvPr/>
        </p:nvSpPr>
        <p:spPr>
          <a:xfrm>
            <a:off x="0" y="6424560"/>
            <a:ext cx="38624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E090C-A91D-44A9-BE42-0D8C39E641C5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25160" y="122040"/>
            <a:ext cx="8466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Хируршко вађење импактираних горњих очњак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250" name="TextBox 6"/>
          <p:cNvSpPr/>
          <p:nvPr/>
        </p:nvSpPr>
        <p:spPr>
          <a:xfrm>
            <a:off x="444600" y="1768320"/>
            <a:ext cx="81709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Горњи очњаци најчешће остају импактирани због недостатка простора за њихов смештај у вилици у којој су већ никли секутићи и премолар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Најчешћа клиничка манифестација присуства импактираног очњака је лабављење латералног секутића или присуство млечног предходника након 12 године живо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7" descr="C:\Users\Zoran\Downloads\oralna hirurgija\slike\download (22).jpg"/>
          <p:cNvPicPr/>
          <p:nvPr/>
        </p:nvPicPr>
        <p:blipFill>
          <a:blip r:embed="rId1"/>
          <a:stretch/>
        </p:blipFill>
        <p:spPr>
          <a:xfrm>
            <a:off x="582480" y="3747960"/>
            <a:ext cx="2813040" cy="24829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8" descr="C:\Users\Zoran\Downloads\oralna hirurgija\slike\imagestroj.jpg"/>
          <p:cNvPicPr/>
          <p:nvPr/>
        </p:nvPicPr>
        <p:blipFill>
          <a:blip r:embed="rId2"/>
          <a:stretch/>
        </p:blipFill>
        <p:spPr>
          <a:xfrm>
            <a:off x="3622680" y="3708360"/>
            <a:ext cx="5367240" cy="259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Узроци импакције зуб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72" name="Date Placeholder 3"/>
          <p:cNvSpPr/>
          <p:nvPr/>
        </p:nvSpPr>
        <p:spPr>
          <a:xfrm>
            <a:off x="0" y="6424560"/>
            <a:ext cx="37688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61484-6F44-4212-BC03-29DF3A8BB1F1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6"/>
          <p:cNvSpPr/>
          <p:nvPr/>
        </p:nvSpPr>
        <p:spPr>
          <a:xfrm>
            <a:off x="420840" y="1925640"/>
            <a:ext cx="8218440" cy="353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фиброзна задебљања мукопериоста, као и склероза кости или задебљања слузокоже, могу механички ометати и задржати зуб у ницањ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 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ницање зуба могу ометати и присутни, такође импактирани, прекобројни зуби, као и друга патолошка стања – одонтоми, цисте или тумор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  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неизникли зуби могу бити одлика и неких генерализованих синдрома, као што су Гролинов синдром или клеидокранијалних дистоз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64680" y="145800"/>
            <a:ext cx="844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Дијагноза импактираних зуб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77" name="Date Placeholder 3"/>
          <p:cNvSpPr/>
          <p:nvPr/>
        </p:nvSpPr>
        <p:spPr>
          <a:xfrm>
            <a:off x="0" y="6424560"/>
            <a:ext cx="3906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85932-C3DF-4A68-BC07-5BA3E88E95F4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7"/>
          <p:cNvSpPr/>
          <p:nvPr/>
        </p:nvSpPr>
        <p:spPr>
          <a:xfrm>
            <a:off x="457200" y="1697040"/>
            <a:ext cx="81932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Дијагноза импактираних зуба поставља се на основу анамнезе, детаљног клиничког прегледа и начињене радиографиј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АНАМНЕ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Иако неизникли и импактирани зуби углавном не причињавају сметње пацијентима, понекад блага нелагодност прати ницање ових зуба, поготову у стадијуму заузимања правилног положаја за ницањ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Када су у питању доњи умњаци, ове нелагодности често бивју потенциране клиничком сликом </a:t>
            </a: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перикоронитиса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, који често компликују ницање ових зуба и често рецидивирај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71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Дијагноза импактираних зуб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82" name="Date Placeholder 3"/>
          <p:cNvSpPr/>
          <p:nvPr/>
        </p:nvSpPr>
        <p:spPr>
          <a:xfrm>
            <a:off x="0" y="6424560"/>
            <a:ext cx="3906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D781B-6F25-464E-9FF4-CE9E38B373E8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"/>
          <p:cNvSpPr/>
          <p:nvPr/>
        </p:nvSpPr>
        <p:spPr>
          <a:xfrm>
            <a:off x="444600" y="1576440"/>
            <a:ext cx="81946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Најманифеснији симптоми перикоронитиса су бол и тризму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Бол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је туп или пулсирајући, веома интезиван, причињава сметње при гутању и отварању ус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Тризмус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може бити само назначен или интезива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Перикоронитис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може да се компликује ширењем инфекције у суседне просторе ( субмандибуларни, масетерични и птеригомандибуларни 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Дијагноза импактираних зуб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87" name="Date Placeholder 3"/>
          <p:cNvSpPr/>
          <p:nvPr/>
        </p:nvSpPr>
        <p:spPr>
          <a:xfrm>
            <a:off x="0" y="6424560"/>
            <a:ext cx="38368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D3592-B207-4F11-A7BE-9775AC3C5EDF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6"/>
          <p:cNvSpPr/>
          <p:nvPr/>
        </p:nvSpPr>
        <p:spPr>
          <a:xfrm>
            <a:off x="457200" y="1684440"/>
            <a:ext cx="82296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КЛИНИЧКИ НАЛА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остојање тумефакта у пределу где би требао да постоји зуб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ерзистентан млечни зуб у старосној доби када би требало да су изникли стални зуб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риликом прегледа, посебну пажњу треба обратити на зубе у суседству неизниклог зуба и проверити евентуално присуство каријеса или пародонталног џеп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У неким случајевима може се сондом кроз постојећи пародонтални џеп контактирати круна импактираног зуб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Date Placeholder 3"/>
          <p:cNvSpPr/>
          <p:nvPr/>
        </p:nvSpPr>
        <p:spPr>
          <a:xfrm>
            <a:off x="0" y="6424560"/>
            <a:ext cx="37544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81BFD-F86A-4C2B-AB15-1A952383E2B5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Дијагноза импактираних зуб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95" name="TextBox 10"/>
          <p:cNvSpPr/>
          <p:nvPr/>
        </p:nvSpPr>
        <p:spPr>
          <a:xfrm>
            <a:off x="480960" y="1636560"/>
            <a:ext cx="81216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Ипак, без обзира на налазе који се добију клиничким прегледом, радиографски преглед остаје незаобилазни метод  дијагнозе  и процене положаја импактираног зуба у склопу општег терапијског пла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РАДИОГРАФСКИ МЕТО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Добар радиографски налаз јасно показује, положај импактираног зуба, морфологију зуба ( број коренова, распоред, повијеност и аномалије), стање околне кости, однос према суседним зубима, удаљеност од доње ивице, ангулуса и рамуса мандибуле, однос према мандибуларном каналу, максиларном синусу, носној шупљини и тубер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Date Placeholder 3"/>
          <p:cNvSpPr/>
          <p:nvPr/>
        </p:nvSpPr>
        <p:spPr>
          <a:xfrm>
            <a:off x="0" y="6424560"/>
            <a:ext cx="38098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2B0F0-F04A-456A-B537-23F181830B62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Дијагноза импактираних зуб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00" name="TextBox 7"/>
          <p:cNvSpPr/>
          <p:nvPr/>
        </p:nvSpPr>
        <p:spPr>
          <a:xfrm>
            <a:off x="444600" y="1768320"/>
            <a:ext cx="8699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У циљу добијања жељених података најчешће се корист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интраорални методи – ретроалвеоларни и аксијал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ортопан снима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rtg-zęba.png"/>
          <p:cNvPicPr/>
          <p:nvPr/>
        </p:nvPicPr>
        <p:blipFill>
          <a:blip r:embed="rId1"/>
          <a:stretch/>
        </p:blipFill>
        <p:spPr>
          <a:xfrm>
            <a:off x="646200" y="3573360"/>
            <a:ext cx="1528560" cy="13366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"/>
          <p:cNvPicPr/>
          <p:nvPr/>
        </p:nvPicPr>
        <p:blipFill>
          <a:blip r:embed="rId2"/>
          <a:stretch/>
        </p:blipFill>
        <p:spPr>
          <a:xfrm>
            <a:off x="2494080" y="3139920"/>
            <a:ext cx="4032000" cy="20606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"/>
          <p:cNvPicPr/>
          <p:nvPr/>
        </p:nvPicPr>
        <p:blipFill>
          <a:blip r:embed="rId3"/>
          <a:stretch/>
        </p:blipFill>
        <p:spPr>
          <a:xfrm>
            <a:off x="6708600" y="3625920"/>
            <a:ext cx="1678320" cy="1339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6T20:52:51Z</dcterms:created>
  <dc:creator>Kaja</dc:creator>
  <dc:description/>
  <dc:language>en-US</dc:language>
  <cp:lastModifiedBy>Korisnik</cp:lastModifiedBy>
  <dcterms:modified xsi:type="dcterms:W3CDTF">2019-09-09T16:02:57Z</dcterms:modified>
  <cp:revision>1405</cp:revision>
  <dc:subject/>
  <dc:title>NAZIV PREDAVANJA</dc:title>
</cp:coreProperties>
</file>